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16B2-B7C2-4224-8ABC-CC16341F1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22CD-9257-4472-B23C-5E11FED1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1A74-B589-488E-9132-78151450B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B872-547E-448C-B1CC-1645EAAE9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927A-4C86-4044-94BF-4081E103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E26D-D59F-4548-8135-6C606F6C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AE52-AB5E-445D-8ECB-AC5A367D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3338-EAFD-40C2-AD94-F38F843C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6288-C293-4242-A75E-CD9030E4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5DE9-E32D-4AC2-926E-9DC54140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7EFF-B363-4110-B8E9-1D0124BB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C383-5088-4AE8-963E-EA23BDFC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60CF71-3BB9-41A6-8743-4D5F3B53A4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4EC334-F653-46C8-9DCA-F7BE60F2D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positions, Conjunctions, Interje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merican L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pos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position: word that relates the noun or pronoun that appears with it to another word in the sent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prepositions show relationships between separate th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 chart on pg. 38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positional Phrases: contains a prep. and a noun or pronoun known as the object of the pre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is the famous actor in the movi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alked around the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m the one who called inside the hou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position or Adverb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mber that a prep. must appear with an object of the pre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e Louis sidled around the r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oxer slowly looked arou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fell down the stai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fell dow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jun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junction: work used to connect other words or groups of wo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re are three kinds of conjunctions: coordinating, correlative, and subordinating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ordinating: these connect words or groups of wo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: Melody and Susie went to see the movie.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se conjunctions are : and, but, for, nor, or, so, y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relative: also join equal elements in sentences, but they always work in pai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: He was not only intelligent, but also handso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conjunctions are: both…and, not only…. but also, either…or, neither….nor, whether….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ordinating: join two complete ideas by making one of the ideas subordinate (dependant) on the 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: You may go to the game if you wash the dish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 chart on pg. 39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junctive Adverbs: used as conjunctions to connect complete ideas.  Often used as transitions, creating a bridge between different ideas by showing comparisons, contrasts, or resul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: The film was great; nevertheless, I prefer the boo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 chart on pg. 3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j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terjection: word that expresses feeling or emotion and functions independently of a sente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n express a variety of feelings such as joy, fear, anger, surprise, exhaustion, dismay, or sorrow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terjections are often set off from the rest of the sentence by a comma or exclamation poi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interjections include: ah, aha, alas, dear, goodness, gracious, hey, hurrah, oh, ouch, psst, tsk, well, whew, w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5:15:25Z</dcterms:created>
  <dc:creator>ndadmin</dc:creator>
  <dc:description/>
  <dc:language>en-US</dc:language>
  <cp:lastModifiedBy>ndadmin</cp:lastModifiedBy>
  <cp:lastPrinted>2008-11-18T20:49:14Z</cp:lastPrinted>
  <dcterms:modified xsi:type="dcterms:W3CDTF">2008-11-18T20:49:23Z</dcterms:modified>
  <cp:revision>2</cp:revision>
  <dc:subject/>
  <dc:title>Prepositions, Conjunctions, Interjections</dc:title>
</cp:coreProperties>
</file>